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05D-93CF-4C1E-8CE5-A2124EFA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04C-ED4C-4E50-926D-102B4BA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79E71-F49E-4286-8390-591F59C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3B1C8-857D-4E94-86BA-A1A1811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97B4D-9B31-4286-BB55-4D17174F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070A5-2DA1-4169-BDC5-03BF865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D45C9-B082-45BE-8009-03F2506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D63A-7AEA-4D88-988B-E108AD8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5EC2D-441D-4984-854E-1BDCF61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FD47E-EEB4-46BC-93F8-C35D8937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2702-ED82-4367-B690-5425EB0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EE1D8-8B14-4AF7-BC0B-1F05AE4E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0E4-3AC2-4F8B-BF00-5DF4F19D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0EF2-3A50-4A88-B0C2-66DBBE61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92739-D8ED-4C0F-A7C5-2148F7C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9100A-5974-48C7-A3B4-2033FA61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FC60A-3147-489D-BB17-2E624F4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011B4-5AB2-466B-9203-3845235E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9F1BC-E578-434B-B5B7-AD71B9D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2559-E70B-4512-926E-A9B413B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4F56-ADAE-491D-94BD-F7E9B5B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F320B-FC97-4D95-88FF-EEFF7AEB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2B975-F5EB-418C-BC8B-B2BB6E1C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7EA-6261-4DBD-B1BB-2AFEDA1B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34EFF-4B1A-47F4-91D3-A0A57ED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85BD-C89B-4C47-AADB-48F9CA70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C246-9C82-497A-BA67-6CAB07D0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86D9A-7DCC-4D76-AF31-5EDE849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009AE-096D-43B7-BAFD-EB353AF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3CD5A-6281-471A-8F9F-E6C1995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BCDCE-EA71-4B7C-B67D-AE6D6FB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8BBFA-9E52-4C3A-A3AF-0028323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43B7A-48FD-4923-9F0D-BF0CE7C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67CEB-7F30-441E-9727-3A39655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414E-F26D-4EBF-B90C-7A9BBBBE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2B581-1678-48C9-91D6-6A9C4AE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DF2D7-C8A1-4674-9389-4F24488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87907-79A1-4F3B-A914-A5ED158F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CEBE5-57AB-4890-8FD3-EA310D24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8DE1C-C479-49EA-8832-122147F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85A8E-BC5C-4B4C-9A7D-FEB9DDD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57F27-F658-467F-91D1-DE04C58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5C632-A1C3-4158-BC10-F2E0515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174CB-92F3-41A3-AE75-206C761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3AF19-0FD7-462C-BA0D-23AA02D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F15-0DD3-4BF6-B12B-B521CE6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63DF7-FBCA-4DC6-829B-B889FFD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0607-059E-4AE1-BBAC-272C111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79FEB-9541-4942-903A-8F2B64EA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F2B89-720A-4EBA-BD2A-99C3D805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FB24B-3D00-41BE-933D-05B03859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B9D8-6CA1-48C2-AE9E-CAE6128B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A28-D4ED-440D-B986-C56DC63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04CE-C39D-4824-BAD7-5BA0D28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A46E-7BDD-476A-A739-197992A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D4F-8160-4A84-BFCA-80751F3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102-E132-4D31-988E-B105F51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240-CC2C-4CD3-8333-9093C05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EFE-DEFE-4026-A9D2-DADFF3E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087A-40D4-41DC-94F0-D970B17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67FA-371D-47C6-A6F2-F4E5141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8AF6-6ED8-4B09-889A-ADD7E7D4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0BFB-D334-41B7-BEA6-E97D9232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5AD9-4239-44E5-AB4B-3D757E6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F9A7-72AC-42DD-9B59-8167F54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F90F-9AC0-41B8-AB2C-4475083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F52F-8775-4E3A-B5C2-DA5BD9C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250-1AFC-4A5E-B927-FA763907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A416-6D26-48D4-A298-9077E4D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0776-A770-4F2E-9E45-DB2DFDC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F292-6A79-4ED9-91E4-138AC393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AA98-5807-4018-9AC4-ADD35857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835D-11FA-4FE4-B806-080F632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4573-026A-4B85-B8A9-D2DEAB5F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C103-CE68-49C6-A6D8-879AD513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AF18-6C45-489C-B0A4-1AB2EDC9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6267-798D-4FC7-8072-DA47B40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4039-0188-419C-9D80-74E9EDB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EC6-526E-4AC2-84A9-412377E7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4472-6CD9-4AB9-A5BC-452AE97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9709-0AE9-455D-8235-8C37668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1131-0BE9-4F64-9D9D-55D9B69D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EEF6-4EF6-49F8-9C1A-5116D28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4412-7CD6-4692-B087-BB01D50D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B228-C462-4AD3-87BF-86988B5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6584-24C4-4044-8D32-81AFFAC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86EC-F6E4-44BA-9BBE-8EC3A638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2A392-026D-4EDF-B240-655D910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1ACF-FE8C-4721-8C82-A8251B66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635-6D7C-473E-BB26-7D9C2215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215B-3274-4D7F-9D38-4239964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31EB-5017-4426-81F5-A87CA64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C438-AD29-4A03-8F51-47907356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1085-47D0-4715-BC84-07DED8A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8103-66E4-4D37-B09A-4453E165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2EDC-B408-419D-BC78-7EB233E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FCC1-A1A2-4192-8292-BC077C8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334E-C818-4E7D-8BD0-490658C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4312-B91E-43ED-9B85-165CFDC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E1CC-A00D-4243-AEEC-52F9FA87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D50-93E9-4DD3-A3FB-996D56B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9947-04AF-41C2-B5E9-7D3F7611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7843-7137-4690-8E6F-6CE6D041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3479-01E1-416D-89B0-C4AD4A3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710B-0BA4-4F23-A966-9E46AF3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BAC3-572B-4CCA-9C1C-FE3FAAC3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2420-728B-42CD-9645-76982529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AA29-682D-400A-8171-57290B57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7C23-4890-4EA8-A789-B0DF9AA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E7D0-CA75-4F28-BD54-0C9C1EB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6F92-FA3F-4CA0-BBD2-CEFEE22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C32-E7F5-4C0E-BB15-94D9967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F27E-931C-4E97-93B1-8DCC69E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78A6-8E46-4D06-95AA-A70F85E2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26C2D-6999-449E-BEED-7071250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ED43D-5576-41C4-85F2-A8B12940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D105-9A76-4CCD-B716-835C035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A78A-7789-47F4-A350-6EDA7A5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BCE58-66BF-48B5-86B3-DE7777A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66CB-03A0-45C5-9B5D-66BE5C2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46C6-FC31-45DE-AB4D-A7AEA5F0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D5F6-024F-49E3-AA4A-A68A4097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B14-91FC-4D31-A407-2A644C8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6E3A-3F36-4536-91F8-2821439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8C756-3020-4A41-9BF8-E4C08FC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393F-EC96-4729-B92D-4B33A1F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A0F48-759A-4593-80F9-56B1CBD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344B-5629-4B20-888D-A8D1C848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B5A94-8B1F-483C-AC2A-87BF134E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1EFE-6066-481F-B219-6C085E01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AB02-3392-4D04-8C44-82A88838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77170-2644-4BD9-87DB-70D7D450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7B05-B860-4C73-848F-A261B63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BA7-9B74-4E49-870B-C863791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EA3D2-8363-4800-880A-1F106CF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76C1-D01F-4D04-BF2D-721927C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AF93-E479-41B8-BCE0-A9C777D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FF3C9-28B4-4403-BD7D-74E2E84C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2FC0B-CC5A-4DD2-87A5-2FC3641D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70D42-A475-4F38-8B32-B00031C1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F84A5-2E6F-460D-8529-55732B25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00987-7EBB-4E6B-819B-3CDE113E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F40A2-7991-4944-BB66-9F35E67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3DC29-5F7F-4A33-A6EB-1BA04BB4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BC0-F690-4B05-85D4-09F8B72623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64B6-E99C-45DA-8596-A27C4A171D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68A-532F-4D38-B759-2546F34B2F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A1C6-77F1-479F-9396-55F3E79B93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382-5E4B-4562-9C33-368D48A2D8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8098-6FD1-414A-BA4A-4083FF1426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14E6-2580-4BAA-90F4-2F42BB0C1E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905A-23C7-46DA-95B6-38BAB4D0C7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73E9-D29E-491E-879F-017A41BD38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041-0C87-4D26-A942-C06D193D92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58B-D14F-4F40-AB20-82F24E8523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296-8315-4D6F-9E6C-228C1B68F1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5 Namiesto mňa Boží Sy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miesto mňa Boží Sy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ol ťarchu mojich ví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, môj Pán, Vykup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a slávy neba vz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 tak preveľk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trpel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ačené nave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zvami sú tvoje dl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a krv ma spas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estu smrti zbavi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sa ti odplat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, čo ti dať má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svoj ti zasvät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e srdce ovládn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ôj, ja tvoj chce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eky chcem s tebou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57:02Z</dcterms:modified>
  <cp:revision>34</cp:revision>
  <dc:subject/>
  <dc:title>Je veľký náš Pán, on slávy je Kráľ Nech do všetkých strán  spev vrúcnych znie chvál.</dc:title>
</cp:coreProperties>
</file>